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1D84C-2BD2-4A1B-9B8C-0F5853044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B05ED-98EE-4194-ABC4-40463A4B6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4C0-FE77-428A-B53E-0C207C90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640-8116-431C-BBA7-98C0B990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EFA-1BF2-435D-8480-18079F2E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5F6-E00A-430E-8015-61489AE9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95CA-C6CC-4475-8DA6-8188D1AA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05E6-FB62-462F-8406-90CACFE1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7B74-6BB3-4380-A8B0-50E8C3CA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683A-906D-4198-9BEF-3951F431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74D8-1C95-4201-A684-F2421F1A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70D1-E00B-41DA-A84B-7EC984D0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E22A-05E7-4A32-847D-EA2EAB1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D71B-A02E-4271-856E-570193E3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F461-DF55-4342-886F-E6A1836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C266-CFDB-4799-BBC9-6DA49D1E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01D1-BCC9-4659-9AC4-F8163BA0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6BDD-21F3-42FC-88F8-F7A77850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EC0C-A251-433F-A504-1FCA18E3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1FC9-0F2A-4C34-833E-217B1ACE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75E7-4632-474C-8E0B-96196995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09EA-6114-4A6A-AAF5-40406F2D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AC00-1C58-4964-A793-D19B0B53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9B02-17A8-44E0-ADEB-06C7F35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902-92DD-4611-AE22-DB6E8CD6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6DA3-549B-4527-ACD5-D5D77855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6AC6-1AB6-4E55-9FF9-4DEC23EF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4A632-38F5-4A5B-9E4B-895CE28E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C211-1661-4B55-A779-C908721D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E39FA-DE53-41A9-B42B-ECB97DF5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A483-0709-4224-A26E-31285CC2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365F-0454-4BB3-AC0B-5F481184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8CD2-E308-4542-85AB-AE78B823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A6466-B882-43E4-A2CB-973B33F6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F1D8-1CFF-49B6-B3DC-CD499D9C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8F3-C74D-40B0-92D8-A75E8981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0F47F-EF6C-47DB-B092-35B0E136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9EBBA-A486-4D98-9B7A-490114CE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B51F-62B3-412D-B458-F872F4B9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CC800-7D41-40BC-BB53-2CBC4913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007C-87F5-4FE2-B361-1685FCB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82E05-E532-42B0-8558-D39C0DCB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1940-7A56-4BA8-8B13-49DEE5C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C992-873B-4E0D-A81B-91A7F82C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D1D34-0848-4EC9-BD73-963870CD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13E54-ABC7-48C1-BF21-CCC0A1C8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0D2-9B2B-4303-AFA1-5762E920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8739-2C54-44A4-BF9B-52C9F617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B04B-622F-489A-9CE1-41DD00D5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912D-50CA-4522-93E3-943FA536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FA05-EEB8-4AEB-9866-BDBEF75A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DBD25-D10B-4352-9349-DC6CD39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E9B3C-6C61-438F-9C9D-C23E21A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4557-865E-49FF-AD97-DF0AEC2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514C-FC5A-4357-B4DF-E64E477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53FFF-4114-4CC9-8E1D-7B578D81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1018-34CA-41B5-B804-25848BB4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D9A-CAB5-450E-B15C-EAC7FDE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46BC-AA86-49F7-8A30-8743D8BE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F29D-4697-4EC8-9B1D-F8392CA0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0711E-5329-44FA-A60F-8524A91C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742F5-062E-4987-A8FF-28ED96B4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FC74-F08B-4AE5-8B02-D3AE743E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67D02-4EDE-4F8A-91A6-2A4BB0C3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90239-081E-4E7E-A314-CD109F1A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09A45-FFFD-41EF-A24F-59A5F04B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DD9D9-1F58-4DEA-BFB2-352FD13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93DF8-8B6C-4F1C-8D07-64C110C5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24E-590E-4F01-9FC9-9D4C5D55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5223B-A673-4FCF-B8AA-2D4916E6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09AF-3F7A-4EFB-8607-362D9757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09457-B1B0-4F52-9664-AFCB5A4B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6FE32-9B56-446A-B2F5-7AB18D88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71399-825F-4861-8911-E3214389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AD748-F0C6-4BC2-BA1E-F60CA049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CA34-DF85-4923-B53E-1D7ACBC8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D1903-94A2-4389-8BD6-E8561D84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40F28-A1FB-469D-AC03-F657E43D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BA145-C56A-4FD4-842F-2669D229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B8C-84FB-4102-9CC9-68912CF7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AD518-C22D-4F9E-8ED7-B15F84C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EF4AB-764D-4AC5-BCA4-8E74A7D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5CC30-BBA0-4CD4-812F-0DADD574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CFEB8-9F2C-4075-B801-8322FB38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07BCF-D9C3-49BD-943C-EBE68557D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EE5EF-B0B8-4FC5-8D79-5DB86B27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B033A-2B63-4AC2-A9B2-79F75FC5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61B99-304D-4D70-82D5-B30073E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1E93F-5D16-4969-A6BA-26A78A90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A6337-FB4A-416A-9E84-B482B701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E7B-1C62-4EC9-8DE4-D2F1FFB0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779040" y="8856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B3D20-858F-463D-BA21-BE03656F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CDEF9-2BB0-4948-9674-94A387C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B512-47E7-4DE7-ABE1-F1432B6A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EBA95-A5D1-4C84-B274-58539FE3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55800" y="3841200"/>
            <a:ext cx="723240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997D-AA5E-431B-97E6-C003A2C5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1640" y="159984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5580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1640" y="3841200"/>
            <a:ext cx="35290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AA7D-EB08-4593-B050-3EBF2872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558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0092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46400" y="159984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558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40092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46400" y="3841200"/>
            <a:ext cx="232848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F83DE-9D57-4CC3-ABAB-54D86A68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overlayTex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A77A0F-6A8F-470B-93D4-B7E717DF1E3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overlayTitl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74DA2-8D92-4934-9437-95C4A9DA208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overlayTex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19592-167A-4D13-87A7-B6339AB2A6C3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E72B6-523B-4405-BC21-AAC24BD5D60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D3383-2661-4CC6-AA46-B926048581C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E094A-42AC-474D-8593-A2FA6878A20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" descr="overlayBlank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7AAEC-B9CC-4C44-A874-3B4138182CE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b31e"/>
            </a:gs>
            <a:gs pos="100000">
              <a:srgbClr val="d162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7" descr="overlayVertical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9144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3716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8288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2860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286000" indent="-457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54864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17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4305240" y="617220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AC7CD-0A03-45A7-8020-21135CA2B3A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1596960"/>
            <a:ext cx="7583400" cy="16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Module 2</a:t>
            </a:r>
            <a:endParaRPr b="1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779040" y="327672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it Ticke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0880" y="5797440"/>
            <a:ext cx="85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ureka Math is licensed by Great Minds under an Attribution-NonCommercial-ShareAlike 4.0 International licens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9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ve each problem. Show that the placement of the decimal is correct through either estimation or fraction calculatio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Picture 3" descr="Screen Shot 2016-06-21 at 2.21.38 PM.png"/>
          <p:cNvPicPr/>
          <p:nvPr/>
        </p:nvPicPr>
        <p:blipFill>
          <a:blip r:embed="rId1"/>
          <a:stretch/>
        </p:blipFill>
        <p:spPr>
          <a:xfrm>
            <a:off x="2381400" y="3006720"/>
            <a:ext cx="4000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0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te the problem using partial produ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1" name="Picture 3" descr="Screen Shot 2016-06-21 at 2.23.08 PM.png"/>
          <p:cNvPicPr/>
          <p:nvPr/>
        </p:nvPicPr>
        <p:blipFill>
          <a:blip r:embed="rId1"/>
          <a:stretch/>
        </p:blipFill>
        <p:spPr>
          <a:xfrm>
            <a:off x="2946240" y="2840040"/>
            <a:ext cx="23259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1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estimation or fraction multiplication to determine if your answer is reasonabl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Calculate the product. 78.93 × 32.4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Paint costs $29.95 per gallon. Nikki needs 12.25 gallons to complete a painting project. How much will Nikki spend on paint? Remember to round to the nearest penny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2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und to estimate the quotient. Then, compute the quotient using a calculator, and compare the estimation to the quotien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4,732 ÷ 13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22,752 ÷ 16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3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ivide using the division algorithm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92,196 ÷ 87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4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imate quotients. Convert decimal division expressions to fractional division expressions to create whole number divisors. Compute the quotient using the division algorithm. Check your work with a calculator and your estimat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Lisa purchased almonds for $3.50 per pound. She spent a total of $24.50. How many pounds of almonds did she purchase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Divide: 125.01÷5.4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5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valuate the expression using mental math techniques and the division algorithm. Explain your reasoning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8.75 ÷ 2.5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6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termine whether each sum or product is even or odd. Explain your reasoning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56,426 + 17,895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17,362 × 129,324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0,481 + 4,569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2,457 × 12,781  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how or explain why 12+13+14+15+16 results in an even sum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7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Is 26,341 divisible by 3? If it is divisible, write the number as the product of 3 and another factor. If not, expl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Is 8,397 divisible by 9? If it is divisible, write the number as the product of 9 and another factor. If not, explai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Explain why 186,426 is divisible by both 3 and 9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8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52320" y="969480"/>
            <a:ext cx="79740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nd the LCM and GCF of 12 and 15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rite two numbers, neither of which is 8, whose GCF is 8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rite two numbers, neither of which is 28, whose LCM is 28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ate each of the stations you visited today. Use this scale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—Easy—I’ve got it; I don’t need any help. 2—Medium—I need more practice, but I understand some of it.            1—Hard—I’m not getting this ye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lete the following chart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8" name="Picture 3" descr="Screen Shot 2016-06-21 at 2.32.28 PM.png"/>
          <p:cNvPicPr/>
          <p:nvPr/>
        </p:nvPicPr>
        <p:blipFill>
          <a:blip r:embed="rId1"/>
          <a:stretch/>
        </p:blipFill>
        <p:spPr>
          <a:xfrm>
            <a:off x="779400" y="4254480"/>
            <a:ext cx="75135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n equivalent multiplication expression. Then, find the quotient in its simplest form. Use a model to support your respons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8" name="Picture 3" descr="Screen Shot 2016-06-21 at 1.54.32 PM.png"/>
          <p:cNvPicPr/>
          <p:nvPr/>
        </p:nvPicPr>
        <p:blipFill>
          <a:blip r:embed="rId1"/>
          <a:stretch/>
        </p:blipFill>
        <p:spPr>
          <a:xfrm>
            <a:off x="1957320" y="3156120"/>
            <a:ext cx="936720" cy="884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Screen Shot 2016-06-21 at 1.54.42 PM.png"/>
          <p:cNvPicPr/>
          <p:nvPr/>
        </p:nvPicPr>
        <p:blipFill>
          <a:blip r:embed="rId2"/>
          <a:stretch/>
        </p:blipFill>
        <p:spPr>
          <a:xfrm>
            <a:off x="1957320" y="4570560"/>
            <a:ext cx="936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19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Euclid’s algorithm to find the greatest common factor of 45 and 75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2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lve each division problem using a model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Henry bought 4 pies, which he plans to share with a group of his friends. If there is exactly enough to give each member of the group one-sixth of the pie, how many people are in the group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Rachel finished       of the race in 6 hours. How long was the entire race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Picture 3" descr="Screen Shot 2016-06-21 at 1.57.22 PM.png"/>
          <p:cNvPicPr/>
          <p:nvPr/>
        </p:nvPicPr>
        <p:blipFill>
          <a:blip r:embed="rId1"/>
          <a:stretch/>
        </p:blipFill>
        <p:spPr>
          <a:xfrm>
            <a:off x="4186080" y="4624560"/>
            <a:ext cx="304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3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nd the quotient. Draw a model to support your solution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3" descr="Screen Shot 2016-06-21 at 1.58.38 PM.png"/>
          <p:cNvPicPr/>
          <p:nvPr/>
        </p:nvPicPr>
        <p:blipFill>
          <a:blip r:embed="rId1"/>
          <a:stretch/>
        </p:blipFill>
        <p:spPr>
          <a:xfrm>
            <a:off x="1816200" y="2414520"/>
            <a:ext cx="1085760" cy="1009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Screen Shot 2016-06-21 at 1.58.49 PM.png"/>
          <p:cNvPicPr/>
          <p:nvPr/>
        </p:nvPicPr>
        <p:blipFill>
          <a:blip r:embed="rId2"/>
          <a:stretch/>
        </p:blipFill>
        <p:spPr>
          <a:xfrm>
            <a:off x="1816200" y="3692520"/>
            <a:ext cx="113328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4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lculate each quotient. If needed, draw a model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Screen Shot 2016-06-21 at 2.02.41 PM.png"/>
          <p:cNvPicPr/>
          <p:nvPr/>
        </p:nvPicPr>
        <p:blipFill>
          <a:blip r:embed="rId1"/>
          <a:stretch/>
        </p:blipFill>
        <p:spPr>
          <a:xfrm>
            <a:off x="2127240" y="2467080"/>
            <a:ext cx="851040" cy="803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Screen Shot 2016-06-21 at 2.02.48 PM.png"/>
          <p:cNvPicPr/>
          <p:nvPr/>
        </p:nvPicPr>
        <p:blipFill>
          <a:blip r:embed="rId2"/>
          <a:stretch/>
        </p:blipFill>
        <p:spPr>
          <a:xfrm>
            <a:off x="2116080" y="3832200"/>
            <a:ext cx="8622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5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55800" y="1231560"/>
            <a:ext cx="723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story problem using the measurement interpretation of division for the following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3" descr="Screen Shot 2016-06-21 at 2.04.37 PM.png"/>
          <p:cNvPicPr/>
          <p:nvPr/>
        </p:nvPicPr>
        <p:blipFill>
          <a:blip r:embed="rId1"/>
          <a:stretch/>
        </p:blipFill>
        <p:spPr>
          <a:xfrm>
            <a:off x="3762360" y="2496960"/>
            <a:ext cx="1451160" cy="890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Screen Shot 2016-06-22 at 3.20.48 PM.png"/>
          <p:cNvPicPr/>
          <p:nvPr/>
        </p:nvPicPr>
        <p:blipFill>
          <a:blip r:embed="rId2"/>
          <a:stretch/>
        </p:blipFill>
        <p:spPr>
          <a:xfrm>
            <a:off x="1373040" y="3535200"/>
            <a:ext cx="64198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6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55800" y="1599840"/>
            <a:ext cx="72324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story problem using the partitive interpretation of division for the following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3" descr="Screen Shot 2016-06-21 at 2.10.12 PM.png"/>
          <p:cNvPicPr/>
          <p:nvPr/>
        </p:nvPicPr>
        <p:blipFill>
          <a:blip r:embed="rId1"/>
          <a:stretch/>
        </p:blipFill>
        <p:spPr>
          <a:xfrm>
            <a:off x="1428840" y="2406600"/>
            <a:ext cx="1517400" cy="90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Screen Shot 2016-06-21 at 2.10.24 PM.png"/>
          <p:cNvPicPr/>
          <p:nvPr/>
        </p:nvPicPr>
        <p:blipFill>
          <a:blip r:embed="rId2"/>
          <a:stretch/>
        </p:blipFill>
        <p:spPr>
          <a:xfrm>
            <a:off x="274680" y="3894120"/>
            <a:ext cx="8165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7 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93200" y="1076400"/>
            <a:ext cx="83962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Write the reciprocal of the following number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Rewrite this division expression as an equivalent multiplication expression:  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Solve Problem 2. Draw a model to support your solution.  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3" descr="Screen Shot 2016-06-21 at 2.15.10 PM.png"/>
          <p:cNvPicPr/>
          <p:nvPr/>
        </p:nvPicPr>
        <p:blipFill>
          <a:blip r:embed="rId1"/>
          <a:stretch/>
        </p:blipFill>
        <p:spPr>
          <a:xfrm>
            <a:off x="4397400" y="3903840"/>
            <a:ext cx="985680" cy="968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Screen Shot 2016-06-21 at 2.16.02 PM.png"/>
          <p:cNvPicPr/>
          <p:nvPr/>
        </p:nvPicPr>
        <p:blipFill>
          <a:blip r:embed="rId2"/>
          <a:stretch/>
        </p:blipFill>
        <p:spPr>
          <a:xfrm>
            <a:off x="779400" y="1436760"/>
            <a:ext cx="73026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79040" y="885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Lesson 8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55800" y="1076040"/>
            <a:ext cx="72324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lculate the quoti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3" descr="Screen Shot 2016-06-21 at 2.18.51 PM.png"/>
          <p:cNvPicPr/>
          <p:nvPr/>
        </p:nvPicPr>
        <p:blipFill>
          <a:blip r:embed="rId1"/>
          <a:stretch/>
        </p:blipFill>
        <p:spPr>
          <a:xfrm>
            <a:off x="1514520" y="1643040"/>
            <a:ext cx="14842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20:48:13Z</dcterms:created>
  <dc:creator>user</dc:creator>
  <dc:description/>
  <dc:language>en-US</dc:language>
  <cp:lastModifiedBy>bethel</cp:lastModifiedBy>
  <dcterms:modified xsi:type="dcterms:W3CDTF">2016-06-29T15:57:25Z</dcterms:modified>
  <cp:revision>27</cp:revision>
  <dc:subject/>
  <dc:title>Module 2</dc:title>
</cp:coreProperties>
</file>